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2219-9990-45DE-A670-36A8ECDCF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C9B1-37B0-4343-9024-B88400D21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4ECD-CE24-427A-BBF6-C18EE58D6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BEC2-4B10-46A6-ABB5-8389AFF88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7193-E1E4-4F25-83D5-67EBD56D9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96BF-1B8C-4A2E-9DD5-7EB55F99C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AD49-A0CA-43A3-B6AE-107D5CAC4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2449-940C-45A8-9E2A-B2C39912A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EDA3-FDEA-4395-8337-2BDDA4FE0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C08D-1F35-47C9-AFD0-1EDC845C8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F3CC-BAF2-406B-A04C-C110BBF19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C7B1-E784-46D7-8D38-4E2919D45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72196-833A-4D9A-888F-41D4195CB9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40 Vďačne každý Boha chváľ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ďačne každý Boha chváľ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nám všetko dobré dal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eho milosť, dobrot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e zdroj nášho život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ôvod všetkého je v ňo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jeho slove tvorivom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eho milosť, dobrot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e zdroj nášho život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edie, chráni, živí nás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die nad nami v každý čas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eho milosť, dobrot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e zdroj nášho život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rdcom, mysľou ctime ho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vorcu všemohúceho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eho milosť, dobrot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e zdroj nášho života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D</cp:lastModifiedBy>
  <dcterms:modified xsi:type="dcterms:W3CDTF">2000-10-11T20:05:43Z</dcterms:modified>
  <cp:revision>30</cp:revision>
  <dc:subject/>
  <dc:title>Je veľký náš Pán, on slávy je Kráľ Nech do všetkých strán  spev vrúcnych znie chvál.</dc:title>
</cp:coreProperties>
</file>